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B33-1369-4C82-A52A-3BEE3BD3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E90-88CA-4B57-B6DE-6A5B6247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4C4-07EF-4E0E-8E2E-ADFE2A7A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3B6-31C4-4CAC-85B9-032714BF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07D-F9D2-4BF6-9616-7CE55BE0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CC9-DE4B-438B-92D9-919476E3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5F5-8858-42C6-B14B-C64AD4FA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B6F-2D57-4C12-A18B-975BE99B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1FA-86C9-442B-823F-6A672D97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1B6-2657-4B96-ABCA-6EDC952D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0A7-AF9D-4C7E-B8A4-E490654F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AB7-4416-4C3E-A8EE-7DF142BB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B5C6-398B-47FA-8290-BE51D1A37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2-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371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= located o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left of the periodic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752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IME OUT!!! You said metals we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n the left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286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, but it belongs the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ecause electrons are arranged by atomic # (# of protons) and it has 1 valence electron like others in Group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35053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eleme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cts differently than all other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0384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Electrons = electrons tha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e in the outer shell of the atom (el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4800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uter shel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s last energ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are valence electrons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14479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ecause they a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hat allows chemical reactions to take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23623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ments in a group sha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imilar chemical properties because they have the same # of 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200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perti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t the same because the valence electrons not in the same shell/energy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3962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495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1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lkali me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ll 1A elements have 1 valence e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kali metals hav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1 valence 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295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ver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re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1752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ound onl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n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209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familiar compoun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s salt (Na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lkaline earth metals (2 valence e- for entire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352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ance 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3886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etals harde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an those in group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3434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gnesium and calcium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e essential to biological life as well as huma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3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oron 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1371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3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828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familia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s Alumi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2286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bunda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etal in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2819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4A = Carbo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3276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4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3733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de up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nmetals, two metalloids, and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4267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rbon most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7242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fo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uman life, because most of the compounds include 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ilico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ext most familiar in carbo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447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st abunda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lement in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1752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5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itroge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2209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5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2666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ntains metals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nmetals, and metal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124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used i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ertili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657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ssentia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o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4191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itroge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st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4648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6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xyge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5105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6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xygen most abunda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lement in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371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zone anothe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rm of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1752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de up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nmetals and metal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133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7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alo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2438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7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819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lourine and chlorin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st famili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200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8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ble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3581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8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038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 odor an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 re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5257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eon mos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4956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no reactivity? Becaus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outer shell is full=8 electrons, meaning it doesn’t lose or gain to be s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5:07:26Z</dcterms:created>
  <dc:creator>Farwell Area Schools</dc:creator>
  <dc:description/>
  <dc:language>en-US</dc:language>
  <cp:lastModifiedBy>Farwell Area Schools</cp:lastModifiedBy>
  <dcterms:modified xsi:type="dcterms:W3CDTF">2009-01-06T19:59:52Z</dcterms:modified>
  <cp:revision>17</cp:revision>
  <dc:subject/>
  <dc:title>Note Guide 5-3 </dc:title>
</cp:coreProperties>
</file>